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A03-D030-4182-AB0F-055ACFB9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C1B-A43D-43FE-BD90-C104CC4D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922-158D-4C1D-8179-34882887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29F-5930-49FE-91EE-D2288CDF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6C59-7B58-4F50-918D-EEB167B0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CE6B-314B-4301-9C6A-83C8E3FB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3D66-E773-44E6-8487-1CFD6330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093E-3F74-451B-BC95-A88B0180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8EF4-D516-4B24-8D93-FA60DE10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D5DE-D39C-41F9-B87E-40A7111B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0F33-90B7-488B-A462-EA1F0CFF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BBC-DA0F-4C80-8AB0-13ECEADF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5197-AF56-429C-B909-05D80C1D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BB2C-E53C-4784-99EF-8132B6ED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260C-D291-4BE2-B515-967C5097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666A-F398-4EB4-ACC8-28D04CB1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42F1-18B0-457C-B081-79D3D216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84647-9B21-48AF-86AD-4D02B317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9EEA4-BEDF-47A4-85BD-EB30C142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44B3A-1C59-4607-A631-C47742D0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83728-A051-4705-877D-299A017D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809D5-65CA-45B5-85B1-D7E8D3C7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09C-9B34-459E-A66D-AEBBC01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3979F-2E6E-493B-B8DB-7C142F99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BB768-16DA-4ABE-80D0-C8A1771B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3F79B-BAFE-4416-B38B-52EDEF58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94F7D-EDAD-48D0-94A5-E0A62CC1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40B2B-05FE-4404-8207-56BD3D0F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C2824-0BE7-4B4E-A598-685ABD0F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DC59F-D39D-4E1C-B124-AF254ED2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3574C-8A86-4BA8-836C-1B1BFE16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DCF7A-D8DA-4A93-A8A9-96025063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C3ED0-6D4B-42DA-9473-6842788D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237-1C7E-4CE4-9969-0FE20C07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172AA-2EEC-4F7B-A2BD-A3915B09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5BB2A-08D3-4B96-82F3-CA1EB6AE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F8024-834C-45A6-87DF-FF47D6B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222775-AE2D-49E6-BB91-3E0FE233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A0F2E-E51E-452F-9B8D-BE0871C9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BBB68-6535-4A31-94D8-13DAF41E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DCA99-B57D-4F04-900F-F8E8863B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9E189-A1F5-45D1-8E82-61A862CC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5BBBB-E11F-420E-801C-F714FDAE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6910D-315D-49F7-AF4A-223A052F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C34-7247-46D0-A70D-EDF6E672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72564-EDA6-4070-9752-FA80691E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6A818F-3D99-4E44-A136-7360E8A1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ECC54-066C-4ED2-BD71-9FA561E1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47D64-9AAB-4FE2-AA76-DFF109A3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C1E39-52D6-46B8-9579-E9F319E5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111A3-E464-4619-B821-B88A498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C233B-FD73-4367-8FC2-8DBC19A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8463C-8C0D-45EB-A7B1-727DD93F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78696-62AF-400D-8E41-0969E89A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B3314-AD0F-4787-8A6B-29768341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911-FEEF-4898-A454-45A6F44C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9FA15-9AE3-4F4C-95EC-326C6A36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0F9F-B149-4B67-AB04-43E4702D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B804E-4F86-4224-B8F0-91CF26FB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B831D-F805-4D43-88B4-69FF76A8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89E69-E64A-4E44-ADD5-A13D3219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A6938-82F6-4288-89A7-991E185D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2BFDC-F34D-4605-B315-143B406A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6E9CF-6380-4AE8-A42F-F877A39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C04FB-A628-43DB-B3AE-3EBE2737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8926-DD92-4F7C-9B22-9326DFCD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914-1876-4E36-A0A4-62AF0FF5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8120F-8C5E-45D7-9F6B-4A7355F0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49C79-2E5E-4D2D-9C93-BDA1D022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B87A3-EEBB-4088-8FD5-F1DB771C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FF067-6ACE-4496-8AB9-9D44BCF4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A4634-050A-4EDE-A000-9F9B825A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CD88C-AF07-4C03-8C80-13BFA8FF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0D19F-FDC1-4544-8DF2-AC481A42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EA34A-5E44-4762-B918-F1819AE0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E7517F-CA8C-4892-85D8-1792D5D3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26DF6-6985-490A-BA7D-962AAC6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BE5-0D43-40F0-9DBD-A95698A2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36B358-332A-4057-8EF7-3CE13ABD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59C0C-F6C5-4FA4-B346-D7F27A60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AA13D-099B-4934-A672-AFA1C061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D77BE4-84E0-48E6-BA73-083CD0CD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D5FAB-EDBF-4F33-9423-74B344F3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3AA14-208C-408E-897B-88B012C6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66B2A-56A3-4859-860C-F2DF3767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DB33C-E33B-4F21-921A-8E14FC77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39DA8-45B0-4197-AEB1-15C00F39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18F72-BCB5-40A4-B0CD-71FE5745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F7B-CB4F-4AC7-9A2E-31C7BA9B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528CE-2406-46BC-B144-26C50984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9ACE0-FF33-41EC-A9B0-E44557FD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5374B-8FED-474B-8FC3-8F567E0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CFE78-2491-4347-BF63-D03C3863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05BB8-9AE9-4264-85D5-5271A207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E184C-A44B-48A8-82A4-F4F09A5B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13BB9-5E10-4539-BDB3-D8CDFF64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3924-83B9-4DF8-89B0-B1B32652032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DD44-1D2B-4BD0-944F-D46D82F2A1BA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F943-3795-4386-AC07-BF4900C46AB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5098-62B3-440E-A1A6-62482876DBB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81DB-C3F4-4197-A28C-821FCC268A3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52CF-5E53-4B4E-B1F3-46EC93CC270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544C-9283-445A-A45F-C50D4A564DA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5B7A-DE9F-4304-9587-80922217BD9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9120" y="14479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x was in charge of getting the equipment for the 14 people in his baseball team.  He made sure he had 8 bats and 38 baseballs.  He also bought enough gloves for each person on the team to have a glove.  He had to have all of the equipment for his first team practice at 4:30 P.M. on Saturday, June 5.  They planned to practice for 60 minutes each Saturday in Jun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914400" y="3505320"/>
            <a:ext cx="7620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un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914400" y="3962520"/>
          <a:ext cx="7620120" cy="266688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089000"/>
                <a:gridCol w="1089000"/>
                <a:gridCol w="1087560"/>
                <a:gridCol w="10890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u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u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r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Max bought twice as many baseballs, how many would he have purchase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more bats would Max have to buy for each team member to have his own ba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ednes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hours did the team practice in Ju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urs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120" y="15998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time was the practice ove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ri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fewer bats did Max get than baseball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20:32:10Z</dcterms:created>
  <dc:creator>127partidak</dc:creator>
  <dc:description/>
  <dc:language>en-US</dc:language>
  <cp:lastModifiedBy>127partidak</cp:lastModifiedBy>
  <dcterms:modified xsi:type="dcterms:W3CDTF">2011-09-26T20:43:37Z</dcterms:modified>
  <cp:revision>2</cp:revision>
  <dc:subject/>
  <dc:title>Information</dc:title>
</cp:coreProperties>
</file>